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59F-1470-4CBD-9D32-B61D9A01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D60-8674-4EEF-B90C-B4816683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23A-1380-420A-8E2A-BEDE8822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F07-89B4-471F-8ED6-E4D093CD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1103-5E7C-40CD-AEC8-773149FD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8AF6-5928-4A33-A40E-B3DAF4E2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203B-6D3C-433D-A64A-2A1471C5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C7E6-396F-4411-8834-06B038F4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DEBA-FFF8-4664-8974-F82C1044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F5FF-B19C-4A42-AF1D-5DC4B6E9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FF34-1318-4F55-AD89-D3C8E759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111-41B3-401F-9A50-796050DE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DB2D-D672-47C9-8185-D1E0AFEB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ED4D-3455-454A-A481-BEDF9B2D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9C06-D583-4201-90BC-1577CC40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DEB6-C23A-40E7-9E73-BCFA47E4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E209-DB82-44BC-BC4E-B8B4E7DC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C728-2CCB-4B2E-BDAA-11DFE766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18F10-2188-4B68-ABA5-C2FA665B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599A-F701-4806-AF8E-2FD2E249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C771-935C-4753-9C6A-227A94D7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9ABD-7E84-4894-A907-B4C8CBB6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A09-BE06-44E0-A65A-E0EE5CEF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37F90-91EA-43FD-BE69-D633711F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9594-D03B-447D-8B9E-2DFECA2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A53E7-20A5-4BC2-9BB0-CF7A699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ED64-7F3C-4A34-B679-DE102FB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9A11-81FC-4160-AF1F-1CD3BE47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72565-44D9-4920-8796-34428294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2318C-374F-4D9E-8713-DA93E378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F1E24-5198-458A-B7A8-276642AA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80FF8-93E5-4B2B-A4DC-F3889D14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A10E2-5016-48AE-9A60-3D2B9FCA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B27-B043-43C8-A6BD-06B294E9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0485-3FFD-4BEF-AF37-85D7F070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92E9-4812-4E37-99BA-F3C25D49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F2179-5363-4EC9-8147-8259712C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BDA2D-D418-46D9-8AB1-E986235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A898-D1B2-4F5E-998A-CD88FCCE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2AA7-070E-4E87-B60E-B10064AC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8DCC6-5690-4E65-BEC8-287E3788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C5542-0977-4884-BC55-CD8CC1A5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3B4B-4BB0-4E83-A7A1-54F49478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5C74F-F546-4C55-A6A0-A6979552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FEB-2E60-4101-ACE4-F345F5C2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52E3F-3234-4D28-B8F6-B0468594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1C78-8EAA-49E5-90AE-CF2F6966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B47E3-C752-4274-9957-774A06F5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4BBE2-7259-47EE-9FB9-C80364BD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5062E-BB69-48E1-A250-238B16DB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4AFD3-1AE8-4F54-BAF8-87882F1D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7F230-D758-4469-89E4-98B434B7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3B7C-C463-4F41-9FAF-CB5EC46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C9A8A-7782-4FFB-A2D6-08EB3753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ACA89-0288-4A1D-AF96-C9E199DE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F87-5BF3-4B78-A164-8503526B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A7367-497C-47E4-A1E8-80389ABF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D6C-51DA-4EDA-B68F-C8300C7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EDE-002A-439A-8DBF-9B5713A3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B69-4769-4D88-BAC8-88CF986E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693D-1A7B-4632-A08F-9792B79537D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1009-6A5F-462D-B44E-0E02993EF09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0CD8-A57A-480D-B99E-EC13F8082B3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C500-F0FF-49A1-8857-E7B7E3831F3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E88D-850E-4D6A-B551-90A2C382446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licious.com/" TargetMode="External"/><Relationship Id="rId2" Type="http://schemas.openxmlformats.org/officeDocument/2006/relationships/hyperlink" Target="http://www.diigo.com/" TargetMode="External"/><Relationship Id="rId3" Type="http://schemas.openxmlformats.org/officeDocument/2006/relationships/hyperlink" Target="http://www.ebizmba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Social Bookmarking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Beth Shaff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Jennifer Stosh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Wilkes Emerging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ts the top database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ety of information to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information – very overwhel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r related?  Mayb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bjectiv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e you to three of the major Social Bookmarking sit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icious (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www.delicious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igo (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www.diigo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BizMBA (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http://www.ebizmba.com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liciou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all of your websites at one lo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with friends and colleag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cribe to other bookm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subjects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ogs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p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’s F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her information eas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’m not sure I would have use for this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iig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nounced “Dee-Go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collaborative tool in 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collaborate with other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light text in th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for almost any 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and easy to fin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G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torial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BizMB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n eBusiness Knowledge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you to find answers on the Web eas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4:42:48Z</dcterms:created>
  <dc:creator>Jeff Shaffer</dc:creator>
  <dc:description/>
  <dc:language>en-US</dc:language>
  <cp:lastModifiedBy>Jeff Shaffer</cp:lastModifiedBy>
  <dcterms:modified xsi:type="dcterms:W3CDTF">2009-10-26T14:51:37Z</dcterms:modified>
  <cp:revision>3</cp:revision>
  <dc:subject/>
  <dc:title>Social Bookmarking</dc:title>
</cp:coreProperties>
</file>